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0E98A-10C8-449D-BD3F-DEDD15EB3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F7F7D-E0C8-4748-BC92-4B9D2DE88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7C97E-E93B-4288-A820-0E8032362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C2FF1-9468-44C3-BCF1-7F23F6E58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315CB-D252-41C8-96AA-96ECD6BE1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488CB-F069-4573-90FB-592FD33ED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05056-7486-46B0-A250-E64820510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20AD7-4110-4C62-B7C2-9139639CF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0A924-74EB-4135-87F0-6416125EB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BB732-165E-4F4B-BB3E-33BA8A89C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40BE7-4F27-4918-BB97-CF133A5BF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AD774-4DEE-423B-810F-6F235E2C0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25820-22C4-4B67-A8DA-E09B0710D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5077E-7F29-4E61-9FB2-F221E9485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5F333-C096-4B57-8FA4-EE5805203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CB003-76E3-44EE-85BC-F1B0D56AD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A0909-D480-48EB-91F5-F7CC447A3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C84BD-BD05-4AEA-B5BF-D03C7A7F8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CF347-4658-4982-BB3C-35016D0A6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B9856-301D-4CB0-B7D2-8C1781D5A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3DF56-35EE-468A-B99E-E18FA9CFE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8132D-5943-4486-9829-6FE92E9B2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6C684-8576-4AEE-BE92-D23E11A6A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B11D7-99A8-4931-8065-18C78B5FB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ADE4F-12D2-4B5D-8E5A-EDF1EF8A6F07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CB055-FCAE-4936-8CB6-1C1C48440CE5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b9efee"/>
              </a:buClr>
              <a:buFont typeface="Garamond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ccff66"/>
              </a:buClr>
              <a:buFont typeface="Garamond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9efee"/>
                </a:solidFill>
                <a:latin typeface="Garamond"/>
              </a:rPr>
              <a:t>Effective Use of English as a Language through Reading and Speaking</a:t>
            </a:r>
            <a:r>
              <a:rPr b="1" lang="en-US" sz="4800" spc="-1" strike="noStrike">
                <a:solidFill>
                  <a:srgbClr val="b9efee"/>
                </a:solidFill>
                <a:latin typeface="Garamond"/>
              </a:rPr>
              <a:t> 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Unit Portfolio Present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Ma. Fe Evangeline D. Sapo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rvin Jan L. Tachado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4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4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4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4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END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anks for listening!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uccess is just one step beyond failur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77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94" dur="770" fill="hold"/>
                                        <p:tgtEl>
                                          <p:spTgt spid="13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96" dur="77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98" dur="77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20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5" dur="20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20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20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1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1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Unit Summary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s course is designed to enhance the English capability of second year high school students. The activities for this course are as follows: interview, answering phone calls, instruction/direction reading. These are the activities that will target the two macro skills: reading and speaking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FQ’s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ssential Question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hy is it important to learn the English Language?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Unit Question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How English Language affects the second language learners?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ontent Questions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hat are the kinds of sentences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fferentiate noun from pronoun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How these subtopics relate to speaking and reading?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Vision for Uni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y creating this unit, we want to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nstill the importance of the English Languag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o explore ways on how to leave a mark about the two macro skills: Reading and Speaking on the minds of our students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uring this unit, we want our students to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earn ways to connect English Language to their daily liv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Utilize technology in relation to English Languag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Project Approaches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s our students work on this project, the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late the topic into their real life experienc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operate with peers and community member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volve their selves to the real world situation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hare their learning with real audiences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9efee"/>
                </a:solidFill>
                <a:latin typeface="Garamond"/>
              </a:rPr>
              <a:t>21</a:t>
            </a:r>
            <a:r>
              <a:rPr b="0" lang="en-US" sz="4400" spc="-1" strike="noStrike" baseline="30000">
                <a:solidFill>
                  <a:srgbClr val="b9efee"/>
                </a:solidFill>
                <a:latin typeface="Garamond"/>
              </a:rPr>
              <a:t>st</a:t>
            </a:r>
            <a:r>
              <a:rPr b="0" lang="en-US" sz="4400" spc="-1" strike="noStrike">
                <a:solidFill>
                  <a:srgbClr val="b9efee"/>
                </a:solidFill>
                <a:latin typeface="Garamond"/>
              </a:rPr>
              <a:t> Century Learning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tudents will develop higher-order and 21</a:t>
            </a:r>
            <a:r>
              <a:rPr b="0" lang="en-US" sz="3200" spc="-1" strike="noStrike" baseline="30000">
                <a:solidFill>
                  <a:srgbClr val="ffffff"/>
                </a:solidFill>
                <a:latin typeface="Garamond"/>
              </a:rPr>
              <a:t>st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century skills in this unit as they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Utilize the Essential and Unit Questions to guide their understanding on the less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flect on their reading and speaking performances and modify and acclimatize them as necessar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Utilize project assessments for self-assessment and corrective feedbac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9efee"/>
                </a:solidFill>
                <a:latin typeface="Garamond"/>
              </a:rPr>
              <a:t>Gauging Student Needs Assessments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Use CFQs to lear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tudents’ ideas about the relationship of English Language to reading and speak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ackground knowledge of parts of speeches such as: noun and pronoun; kinds of sentences and intonation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Assess 21st Century skill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apacity to see the interrelatedness of the given topics to reading and speaking activiti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5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9efee"/>
                </a:solidFill>
                <a:latin typeface="Garamond"/>
              </a:rPr>
              <a:t>Gauging Student Needs Assessments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We can use the information from these assessments to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Focus on parts on the technicalities of the language students have prior misconceptions abou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Prepare activities in which they will answer their question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tudents can use the information from these assessments to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Develop their reading and speaking skills in line to the standard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et intentions for how they will adjust their reading and speaking styl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7" dur="5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3" dur="5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500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9efee"/>
                </a:solidFill>
                <a:latin typeface="Garamond"/>
              </a:rPr>
              <a:t>Requests for Feedback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eed ways to help students understand the applications of basic grammar to reading and speak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eed help assessing students’ higher-order thinking skill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7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7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19:18:51Z</dcterms:created>
  <dc:creator>nave1386</dc:creator>
  <dc:description/>
  <dc:language>en-US</dc:language>
  <cp:lastModifiedBy>Student</cp:lastModifiedBy>
  <dcterms:modified xsi:type="dcterms:W3CDTF">2007-06-20T04:41:12Z</dcterms:modified>
  <cp:revision>4</cp:revision>
  <dc:subject/>
  <dc:title>Effective Use of English as a Language through Reading and Speaking </dc:title>
</cp:coreProperties>
</file>